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560-9AC1-4B89-B1E4-DDA0FDD5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311-9FCC-4B14-8090-78438C69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4B0-9A25-4CE3-A064-405AD211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71B-7383-42F4-914B-13E257AC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3265-6146-4374-B40D-F54EB1D6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CD51-B443-47A5-BA0E-F1F06349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53AB-5EA0-4A35-95D5-2F958C35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1CCE-2272-4E93-8638-6CB0C7B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C4DC-385C-4077-8E8C-1F0A8495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8D35-A9D4-4B79-B0EE-57840B91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BDD7-8195-49E6-98AE-7A1D678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F56-54AC-4FCC-AE16-A045CB98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D4AD-2EBD-4506-AA0F-638CCDC0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D91C-D2D8-43AB-83CC-AF78A7BE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744D-63B6-4E57-A99D-1362D4D0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8FF9-3EFF-4B1F-BF44-47AB59DF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DEA5-AF94-4615-9A77-FE874306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701-A3CE-4617-ADA5-89082628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8BE-CEEB-4B5D-B9DB-5057D29C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B3B-8468-48B6-A4B3-CC04210C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B52-F02C-42C6-805E-61F6CF4E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3A0-29AD-4601-B77E-E46827A9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48E-9800-4938-943E-D10EB6B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DDF-BC0A-45F2-8D3C-6CBE58A5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335F-B467-4B70-B603-E312A6EB5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00CC-3B44-436A-A2C5-94150F25DC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4500720" y="549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ергей Есе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995640" y="177336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Arial"/>
              </a:rPr>
              <a:t>3 октября 1895 г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b7e7ff"/>
                </a:solidFill>
                <a:latin typeface="Arial"/>
              </a:rPr>
              <a:t>28 декабря 1925 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175280" y="393372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Но более  вс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Любовь к родному кра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еня томил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учила и жгла…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587760" cy="4608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entralImgId" descr="i-947"/>
          <p:cNvPicPr/>
          <p:nvPr/>
        </p:nvPicPr>
        <p:blipFill>
          <a:blip r:embed="rId1"/>
          <a:stretch/>
        </p:blipFill>
        <p:spPr>
          <a:xfrm>
            <a:off x="1000080" y="500040"/>
            <a:ext cx="735804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entralImgId" descr="i-9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Школа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24000" y="2781360"/>
            <a:ext cx="8640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centralImgId" descr="i-943"/>
          <p:cNvPicPr/>
          <p:nvPr/>
        </p:nvPicPr>
        <p:blipFill>
          <a:blip r:embed="rId1"/>
          <a:stretch/>
        </p:blipFill>
        <p:spPr>
          <a:xfrm>
            <a:off x="285840" y="785880"/>
            <a:ext cx="8507160" cy="585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f0ff"/>
                </a:solidFill>
                <a:latin typeface="Arial"/>
              </a:rPr>
              <a:t>Класс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6" descr="museum_04_1"/>
          <p:cNvPicPr/>
          <p:nvPr/>
        </p:nvPicPr>
        <p:blipFill>
          <a:blip r:embed="rId1"/>
          <a:stretch/>
        </p:blipFill>
        <p:spPr>
          <a:xfrm>
            <a:off x="826920" y="97164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4500720" y="3284640"/>
            <a:ext cx="3887640" cy="2869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507960" y="328464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3"/>
          <a:stretch/>
        </p:blipFill>
        <p:spPr>
          <a:xfrm>
            <a:off x="431640" y="476280"/>
            <a:ext cx="3965760" cy="2665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4"/>
          <a:srcRect l="0" t="0" r="-537" b="6417"/>
          <a:stretch/>
        </p:blipFill>
        <p:spPr>
          <a:xfrm>
            <a:off x="4572000" y="476280"/>
            <a:ext cx="3816360" cy="266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395280" y="333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941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059280" y="434160"/>
            <a:ext cx="608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Есенинское небо над Россией 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Раскинулось, как голубой шатер, 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А в поле василек хрустально-синий 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Ведет с ромашкой звонкий разгов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entralImgId" descr="i-9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78588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6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787640" y="549000"/>
            <a:ext cx="381636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62150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Село Константиново  Рязанская область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8607240" cy="5072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график 2"/>
          <p:cNvPicPr/>
          <p:nvPr/>
        </p:nvPicPr>
        <p:blipFill>
          <a:blip r:embed="rId1"/>
          <a:stretch/>
        </p:blipFill>
        <p:spPr>
          <a:xfrm>
            <a:off x="914400" y="152280"/>
            <a:ext cx="7391520" cy="650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Picture 7" descr="Комната матери"/>
          <p:cNvPicPr/>
          <p:nvPr/>
        </p:nvPicPr>
        <p:blipFill>
          <a:blip r:embed="rId1"/>
          <a:stretch/>
        </p:blipFill>
        <p:spPr>
          <a:xfrm>
            <a:off x="1428840" y="857160"/>
            <a:ext cx="6286320" cy="574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2" name="Picture 6" descr="Комната Есенина"/>
          <p:cNvPicPr/>
          <p:nvPr/>
        </p:nvPicPr>
        <p:blipFill>
          <a:blip r:embed="rId1"/>
          <a:stretch/>
        </p:blipFill>
        <p:spPr>
          <a:xfrm>
            <a:off x="1285920" y="857160"/>
            <a:ext cx="6786360" cy="5781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hp</cp:lastModifiedBy>
  <dcterms:modified xsi:type="dcterms:W3CDTF">2014-02-27T17:15:47Z</dcterms:modified>
  <cp:revision>71</cp:revision>
  <dc:subject/>
  <dc:title>PowerPoint Presentation</dc:title>
</cp:coreProperties>
</file>